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6.png" ContentType="image/png"/>
  <Override PartName="/ppt/media/image5.wmf" ContentType="image/x-wmf"/>
  <Override PartName="/ppt/media/image13.jpeg" ContentType="image/jpeg"/>
  <Override PartName="/ppt/media/image3.wmf" ContentType="image/x-wmf"/>
  <Override PartName="/ppt/media/image26.jpeg" ContentType="image/jpeg"/>
  <Override PartName="/ppt/media/image15.gif" ContentType="image/gif"/>
  <Override PartName="/ppt/media/image25.png" ContentType="image/png"/>
  <Override PartName="/ppt/media/image24.jpeg" ContentType="image/jpeg"/>
  <Override PartName="/ppt/media/image22.png" ContentType="image/png"/>
  <Override PartName="/ppt/media/image4.wmf" ContentType="image/x-wmf"/>
  <Override PartName="/ppt/media/image21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4.gif" ContentType="image/gif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 Linotyp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5766-E508-4621-9810-4F6F0C3572A1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selected excerp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nia the Tree, Hatchet, Love that Dog, Giving Tree, Harriet the Spy, Just Juice, Porch Lies (make copies of excerpts for teachers to use) – pairs reading/books stacked in the middle of the table (choose what you are going to read with partner – try to choose a book you are not familiar wi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p of a wax muse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k to Unit 1 to share suggested learning activit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markers/chart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ake what you have read and create a graphic organizer for all of the books that were read at your table…turn to page 7 to see parts of the cha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ll in all the parts as best you can, may have to leave some blank if you just read an excerpt from your b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continue this chart throughout the year with every read-aloud that you do- does not end at the end of uni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4C6D4-2610-4B04-B4FF-0C4CF0F89740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ounty writing baseline assessment and writing calend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think they are done…tell them to get up (with their partner and their book/sticky note), find a set of partners not from your table, stop and share with a new set of partners – share your experience/evid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6E3DC-56E1-4385-917D-8F5F2C6F5BF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ss out county word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 words to the wall throughout the year…don’t start with all the words on your wall, teach about 5 words/week/ discuss/use in sentences/ other activities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fer to the wall, teach students to use the wall during Writer’s Workshop/patter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icit instruction in words – sounds and patterns = Word Study (not random word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spelling inventory to drive your instruction…group students according to needs, partner with other teachers on your grade lev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D07E-FA56-4ED0-816D-36BD5AA42A2D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to digest…here are resources for you to go to and look 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E5F9C-51B9-4F3F-9E90-530D6B3C7CE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become familiar with poems associated with this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courage to use with students and discuss changes characters undergo in the po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would continue this chart throughout the year with every read-aloud that you do- does not end at the end of unit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2C91-1921-4159-B8E3-44120DBB6209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nd provide description of n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restate the description/explanation in their ow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construct a symbol, picture, graphic of the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opportunities to add to their knowledge of the terms in their note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the opportunity to review the terms with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students in games that allow them to play with the ter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e and provide description of new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restate the description/explanation in their own wor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k students to construct a symbol, picture, graphic of the ter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opportunities to add to their knowledge of the terms in their note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students the opportunity to review the terms with each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 students in games that allow them to play with the term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played a game at the beginning: Classroom Feud – could be used at step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cuss JR Character traits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7F4DD-3C87-4E3A-9125-503968822B0E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resources being ordered by the count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K-2 - Searchasaurus/Gale InfoB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-5 – Grolier Online/Infotrac Kids/Kids Sear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topics – get sites appropriate for K-12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rrow searches by key words, text 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arch by reading level (lexi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700 magazines (Ranger Rick, Highlights, etc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ppropriate image searches – KidSearc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Novelist K-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ch kids to boo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59BA-1C93-423D-AB35-83920C20CB2F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actice writing your own bio-poem to use as an example with students/construction paper, markers/deco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 if time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 part 1 first day of school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 around the room…during break get up and walk around to read what other teachers wrote about their books/excerpts (Gallery Walk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24C0A-D136-4CD3-9B4D-14E1A8868934}" type="slidenum">
              <a:rPr b="0" lang="en-US" sz="1200" spc="-1" strike="noStrike">
                <a:solidFill>
                  <a:srgbClr val="000000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pacing guides, look at next two slides (explain)…give time for teachers to take a closer loo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phasize guided reading as still an integral part….could choose books that fit with the un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out – connected literacy model expectations (with time guide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nd out – year at a gl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ow links (click on picture to pull up docume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EB9B-5168-4CA8-9354-79A50F23B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9387-8770-4209-8531-29ED56AC2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0B9D-AEC8-40D3-B4D7-DA56B3CC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431A5-297A-4C2E-939D-FF8989BEC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840D6-9815-4CB6-9151-5EF300C02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D685-7689-46F9-BDAE-A43DF8E5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B68E9-81E5-40BA-964C-0EA1CB91D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F864C-E598-4F2C-AB5B-1734CA092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5F86-038C-4F29-8468-F961BEA99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0EECF-A376-4D5D-94E0-C5226B7B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CD907-4988-45EB-8BCA-64F93D5F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41A-EB95-4182-847B-93CBFE66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8A03-77E4-4004-A0FF-395EEDB36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9DC28-D5D8-45B5-AFE5-BEDA10154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7D6F-A4E2-4B9A-B4AF-D33C0B69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1AB9-1316-4D9C-A12D-FF4CB9B00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B77-209D-4FF7-90E5-C1AEA9AB7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27DF-EF90-4729-BD0A-978F12F96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6AE9-C7F8-4CC6-A982-4AE5E0B5A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0C69-3D53-44FA-A5EE-E1544E7F3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B3DB-4206-4062-A5E2-60E5E53B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4F40-4018-4051-AA58-A43B7159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2AFA-11FE-4000-8C93-35B64572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4D4B-BDA7-4710-B0E3-D4533967A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E75E9-C63B-4C83-984A-3668F04948A4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8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9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10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2D362-A11C-476B-8CAC-BBD15CD7078B}" type="slidenum">
              <a:rPr b="0" lang="en-US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rtdlEktR8Ks" TargetMode="External"/><Relationship Id="rId2" Type="http://schemas.openxmlformats.org/officeDocument/2006/relationships/hyperlink" Target="file:///RCS_Unit_Grade_4_Unit_1_changes%20over%20time.docx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mwZqJB_8dQ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www.amazon.com/gp/product/images/0135145775/ref=dp_image_0/183-7857449-1603554?ie=UTF8&amp;n=283155&amp;s=books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amazon.com/gp/product/images/0135145805/ref=dp_image_0?ie=UTF8&amp;n=283155&amp;s=books" TargetMode="External"/><Relationship Id="rId5" Type="http://schemas.openxmlformats.org/officeDocument/2006/relationships/image" Target="../media/image18.jpeg"/><Relationship Id="rId6" Type="http://schemas.openxmlformats.org/officeDocument/2006/relationships/hyperlink" Target="http://www.amazon.com/Words-Their-Derivational-Relations-Spellers/dp/0135145783/ref=sr_1_7?s=books&amp;ie=UTF8&amp;qid=1343315355&amp;sr=1-7&amp;keywords=words+their+way" TargetMode="External"/><Relationship Id="rId7" Type="http://schemas.openxmlformats.org/officeDocument/2006/relationships/image" Target="../media/image19.jpeg"/><Relationship Id="rId8" Type="http://schemas.openxmlformats.org/officeDocument/2006/relationships/image" Target="../media/image2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1f497d"/>
                </a:solidFill>
                <a:latin typeface="Palatino Linotype"/>
              </a:rPr>
              <a:t>RCS ELA</a:t>
            </a:r>
            <a:br>
              <a:rPr sz="6200"/>
            </a:br>
            <a:r>
              <a:rPr b="0" lang="en-US" sz="6200" spc="-1" strike="noStrike">
                <a:solidFill>
                  <a:srgbClr val="1f497d"/>
                </a:solidFill>
                <a:latin typeface="Palatino Linotype"/>
              </a:rPr>
              <a:t>Common Core and Essential Standards Training</a:t>
            </a:r>
            <a:br>
              <a:rPr sz="6200"/>
            </a:br>
            <a:r>
              <a:rPr b="0" lang="en-US" sz="6600" spc="-1" strike="noStrike">
                <a:solidFill>
                  <a:srgbClr val="1f497d"/>
                </a:solidFill>
                <a:latin typeface="Palatino Linotype"/>
              </a:rPr>
              <a:t>Grade 4</a:t>
            </a:r>
            <a:endParaRPr b="0" lang="en-US" sz="66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August 16, 2012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Presenters: 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Katie Eller (keller@randolph.k12.nc.us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entury Gothic"/>
              </a:rPr>
              <a:t>Angela Harris (aharris@randolph.k12.nc.us)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6324480" y="4178160"/>
            <a:ext cx="2633760" cy="24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7" descr="draft_lens18268382module152170337photo_1312770013time-to-read"/>
          <p:cNvPicPr/>
          <p:nvPr/>
        </p:nvPicPr>
        <p:blipFill>
          <a:blip r:embed="rId2"/>
          <a:stretch/>
        </p:blipFill>
        <p:spPr>
          <a:xfrm>
            <a:off x="2133720" y="990720"/>
            <a:ext cx="46479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 Closer Look at </a:t>
            </a:r>
            <a:br>
              <a:rPr sz="5400"/>
            </a:b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Unit On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verview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it Goal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earning Targe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ssential Questi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Gothic"/>
                <a:hlinkClick r:id="rId1"/>
              </a:rPr>
              <a:t>Performance Task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Century Gothic"/>
                <a:hlinkClick r:id="rId2"/>
              </a:rPr>
              <a:t>Suggested Learning Experien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Unit Materials and Resourc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Vocabulary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Other Resources/Hyperlink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Create a </a:t>
            </a:r>
            <a:br>
              <a:rPr sz="5400"/>
            </a:b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Graphic Organizer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page 7 of Unit 1 to: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Create a Graphic Organizer about your book/excerpt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Fill in as many of the categories as you can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entury Gothic"/>
              </a:rPr>
              <a:t>Gallery Walk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5" name="Picture 5" descr="Cartoon_marker"/>
          <p:cNvPicPr/>
          <p:nvPr/>
        </p:nvPicPr>
        <p:blipFill>
          <a:blip r:embed="rId2"/>
          <a:stretch/>
        </p:blipFill>
        <p:spPr>
          <a:xfrm>
            <a:off x="3048120" y="3429000"/>
            <a:ext cx="250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ssessment Update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Writing Assessmen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Grades 3-5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entury Gothic"/>
              </a:rPr>
              <a:t>Only 3 samples will be required for the writing portfolio beginning in 2012-2013.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38" name="Picture 6" descr="Notepad"/>
          <p:cNvPicPr/>
          <p:nvPr/>
        </p:nvPicPr>
        <p:blipFill>
          <a:blip r:embed="rId1"/>
          <a:stretch/>
        </p:blipFill>
        <p:spPr>
          <a:xfrm>
            <a:off x="3505320" y="4114800"/>
            <a:ext cx="2361960" cy="21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609480" y="152280"/>
          <a:ext cx="7925040" cy="6656400"/>
        </p:xfrm>
        <a:graphic>
          <a:graphicData uri="http://schemas.openxmlformats.org/drawingml/2006/table">
            <a:tbl>
              <a:tblPr/>
              <a:tblGrid>
                <a:gridCol w="1355760"/>
                <a:gridCol w="2111400"/>
                <a:gridCol w="2111400"/>
                <a:gridCol w="2346480"/>
              </a:tblGrid>
              <a:tr h="43344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3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4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5</a:t>
                      </a:r>
                      <a:r>
                        <a:rPr b="1" lang="en-US" sz="14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th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Gr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240516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On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O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Baseline 2-day Writing Assessment (Required for RTI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aunching Writers’ Worksho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/Explanatory 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/Explanatory – linked to the Performance Tas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1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Two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Three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w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– may link to performance task in unit 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focu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Informative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Explanatory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pinion – On Demand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2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692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Unit Four/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Thre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Opinion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Opinion – linked to Unit Goals under Writing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8240" rIns="4824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arrative foc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Sample #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Narrative – linked to the performance task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ue by the end of 3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d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Quart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48240" rIns="4824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Quarter Fo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8240" rIns="4824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dditional writing goals will be taught in quarter 4 according to the ELA Unit pacing guid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48240" marR="48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Let’s Talk!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THINK:  Think back to a character from your book/excerpt.  Do any of the character’s experiences remind you of an experience from your own life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:  Briefly describe your common experience on a sticky not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AIR SHARE:  Share your sticky note with your partner. Find text evidence that supports how your experience was similar to the character’s.  Flag it in your book.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New RCS Word List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600200"/>
          <a:ext cx="8229600" cy="2657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High Frequency Wo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Palatino Linotype"/>
                        </a:rPr>
                        <a:t>Phonics/Word Study Foc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22860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tudents use in their writ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word wall strateg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 per week or as oddballs during phonics sor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Use spelling inventory results to determine starting po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Focus on one word study principle (short 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Sort words/pictu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44" name="TextBox 4"/>
          <p:cNvSpPr/>
          <p:nvPr/>
        </p:nvSpPr>
        <p:spPr>
          <a:xfrm>
            <a:off x="533520" y="4724280"/>
            <a:ext cx="807696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alatino Linotype"/>
              </a:rPr>
              <a:t>Common Core Standards and RCS Suggested Word Study Sequence (K-5)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Palatino Linotype"/>
                <a:hlinkClick r:id="rId1"/>
              </a:rPr>
              <a:t>Why Word Study Matters</a:t>
            </a:r>
            <a:endParaRPr b="0" lang="en-US" sz="2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Differentiate!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46" name="TextBox 4"/>
          <p:cNvSpPr/>
          <p:nvPr/>
        </p:nvSpPr>
        <p:spPr>
          <a:xfrm>
            <a:off x="533520" y="4724280"/>
            <a:ext cx="8076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47" name="Picture 17" descr="013514843X"/>
          <p:cNvPicPr/>
          <p:nvPr/>
        </p:nvPicPr>
        <p:blipFill>
          <a:blip r:embed="rId1"/>
          <a:stretch/>
        </p:blipFill>
        <p:spPr>
          <a:xfrm>
            <a:off x="533520" y="1523880"/>
            <a:ext cx="1909800" cy="2514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Words Their Way Word Sorts for Syllables and Affixes Spellers (2nd Edition)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43828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3" descr="Words Their Way: Word Sorts for Letter Name - Alphabetic Spellers (2nd Edition)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5" descr="Product Details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438280" y="4114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7" descr="Word Journeys: Assessment-Guided Phonics, Spelling, and Vocabulary Instruction"/>
          <p:cNvPicPr/>
          <p:nvPr/>
        </p:nvPicPr>
        <p:blipFill>
          <a:blip r:embed="rId8"/>
          <a:stretch/>
        </p:blipFill>
        <p:spPr>
          <a:xfrm>
            <a:off x="5029200" y="2133720"/>
            <a:ext cx="3733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Let’s Practice!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53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Additional </a:t>
            </a:r>
            <a:br>
              <a:rPr sz="4800"/>
            </a:br>
            <a:r>
              <a:rPr b="0" lang="en-US" sz="4800" spc="-1" strike="noStrike">
                <a:solidFill>
                  <a:srgbClr val="1f497d"/>
                </a:solidFill>
                <a:latin typeface="Palatino Linotype"/>
              </a:rPr>
              <a:t>Word Study Resources</a:t>
            </a:r>
            <a:endParaRPr b="0" lang="en-US" sz="48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09480" y="1752480"/>
            <a:ext cx="800100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ords Their Way: Word Study in Action 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(video tutorials, assessment, and ELL tips)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 Linotype"/>
              </a:rPr>
              <a:t>Word Study Books</a:t>
            </a: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Agenda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Introduction to RCS Integrated ELA Pacing Guid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andolph County Connected Literacy Expectation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Year at a Glance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 Closer Look at Unit One – (Changes Over Time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Assessment Updat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RCS Revised High Frequency and Spelling Lis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Dramatization/Fluency using Poetry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Choose one of the poems from this unit to read and discuss with a partner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How does it fit the theme of the unit? 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Perform the poem as a duet with a partner at your table.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Vocabulary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3200400" y="1981080"/>
            <a:ext cx="2855880" cy="46483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" descr="http://webs.rps205.com/curriculum/ssandvoc/images/E51DC4F5E922490DBD1EEE422A747E4A.jpg"/>
          <p:cNvPicPr/>
          <p:nvPr/>
        </p:nvPicPr>
        <p:blipFill>
          <a:blip r:embed="rId2"/>
          <a:stretch/>
        </p:blipFill>
        <p:spPr>
          <a:xfrm rot="20743200">
            <a:off x="708120" y="2339640"/>
            <a:ext cx="1725480" cy="23097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7" descr="http://media-cache0.pinterest.com/upload/195836283765936847_03EfODJI_b.jpg"/>
          <p:cNvPicPr/>
          <p:nvPr/>
        </p:nvPicPr>
        <p:blipFill>
          <a:blip r:embed="rId3"/>
          <a:stretch/>
        </p:blipFill>
        <p:spPr>
          <a:xfrm rot="798600">
            <a:off x="6705360" y="2371320"/>
            <a:ext cx="1828800" cy="22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28600" y="636480"/>
            <a:ext cx="8558280" cy="5191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K-5 Wiki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ttp://randolphk-5instruction.wikispaces.com/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Grade 3 Readers Notebook Sample from Jan Richardson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http://www.janrichardsonguidedreading.com/resources-1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499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lvl="1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Century Gothic"/>
              </a:rPr>
              <a:t>NC Wise Owl - Your Google Alternative </a:t>
            </a: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http://www.ncwiseowl.org/zones/elementary/index.htm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4</a:t>
            </a:r>
            <a:r>
              <a:rPr b="0" lang="en-US" sz="5400" spc="-1" strike="noStrike" baseline="30000">
                <a:solidFill>
                  <a:srgbClr val="1f497d"/>
                </a:solidFill>
                <a:latin typeface="Palatino Linotype"/>
              </a:rPr>
              <a:t>th</a:t>
            </a: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 Grade Resources and Link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854388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7360" rIns="4572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49E7-111A-4B50-B6AD-FE774A9E98BF}" type="slidenum">
              <a:rPr b="0" lang="en-US" sz="1100" spc="-1" strike="noStrike">
                <a:solidFill>
                  <a:srgbClr val="1f497d"/>
                </a:solidFill>
                <a:latin typeface="Calibri"/>
                <a:ea typeface="ＭＳ Ｐゴシック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Palatino Linotype"/>
              </a:rPr>
              <a:t>Bio-Poem ~ Part 1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Write a bio-poem about yourself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Use the construction paper and any other supplies to create an example to share with your student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Bio-Poem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Gothic"/>
              </a:rPr>
              <a:t>Look at Part 2 (page 9)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Ticket Out the Door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60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hat are you most excited about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What burning question do you have?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70" name="Picture 16" descr="http://jared110.files.wordpress.com/2010/10/happy-dance-cartoon.jpg?w=450"/>
          <p:cNvPicPr/>
          <p:nvPr/>
        </p:nvPicPr>
        <p:blipFill>
          <a:blip r:embed="rId1"/>
          <a:stretch/>
        </p:blipFill>
        <p:spPr>
          <a:xfrm>
            <a:off x="3200400" y="365760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RCS Integrated ELA Pacing Guide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Organized by ELA Units of Study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First Quarter – 1 unit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Second and Third Quarter – 2 units each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entury Gothic"/>
              </a:rPr>
              <a:t>Fourth Quarter – 1 unit </a:t>
            </a:r>
            <a:endParaRPr b="0" lang="en-US" sz="15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Literacy strands/subjects by colors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All Science/Social Studies/Information-Technology and Healthful Living Standards included (no curriculum cards)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Most standards are bold/Clarifying objectives are not bold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entury Gothic"/>
              </a:rPr>
              <a:t>Some objectives are spiraled.  </a:t>
            </a:r>
            <a:endParaRPr b="0" lang="en-US" sz="2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77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8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77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77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9" dur="77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77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4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6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" dur="77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77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5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77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4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6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8" dur="77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770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5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7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" dur="77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770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8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0" dur="77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770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7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9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Let’s take a closer look!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pic>
        <p:nvPicPr>
          <p:cNvPr id="104" name="Picture 4" descr="MC900437797[1]"/>
          <p:cNvPicPr/>
          <p:nvPr/>
        </p:nvPicPr>
        <p:blipFill>
          <a:blip r:embed="rId1"/>
          <a:stretch/>
        </p:blipFill>
        <p:spPr>
          <a:xfrm>
            <a:off x="2819520" y="1981080"/>
            <a:ext cx="396216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1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372600" cy="69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RCS Connected Literacy Expectations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grpSp>
        <p:nvGrpSpPr>
          <p:cNvPr id="108" name="Group 16"/>
          <p:cNvGrpSpPr/>
          <p:nvPr/>
        </p:nvGrpSpPr>
        <p:grpSpPr>
          <a:xfrm>
            <a:off x="533520" y="1676520"/>
            <a:ext cx="8229600" cy="4419360"/>
            <a:chOff x="533520" y="1676520"/>
            <a:chExt cx="8229600" cy="4419360"/>
          </a:xfrm>
        </p:grpSpPr>
        <p:sp>
          <p:nvSpPr>
            <p:cNvPr id="109" name="Line 11"/>
            <p:cNvSpPr/>
            <p:nvPr/>
          </p:nvSpPr>
          <p:spPr>
            <a:xfrm>
              <a:off x="2590920" y="3048120"/>
              <a:ext cx="5331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0" name="Line 12"/>
            <p:cNvSpPr/>
            <p:nvPr/>
          </p:nvSpPr>
          <p:spPr>
            <a:xfrm flipH="1">
              <a:off x="5257800" y="2819520"/>
              <a:ext cx="38088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1" name="Line 13"/>
            <p:cNvSpPr/>
            <p:nvPr/>
          </p:nvSpPr>
          <p:spPr>
            <a:xfrm flipH="1">
              <a:off x="5714640" y="3962520"/>
              <a:ext cx="11430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2" name="Line 14"/>
            <p:cNvSpPr/>
            <p:nvPr/>
          </p:nvSpPr>
          <p:spPr>
            <a:xfrm flipV="1">
              <a:off x="2209680" y="4266720"/>
              <a:ext cx="9907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 flipV="1">
              <a:off x="4952520" y="4191120"/>
              <a:ext cx="228600" cy="76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4" name="AutoShape 5"/>
            <p:cNvSpPr/>
            <p:nvPr/>
          </p:nvSpPr>
          <p:spPr>
            <a:xfrm>
              <a:off x="3048120" y="3352680"/>
              <a:ext cx="2743200" cy="9907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Palatino Linotype"/>
                </a:rPr>
                <a:t>Connected Literacy</a:t>
              </a:r>
              <a:endParaRPr b="0" lang="en-US" sz="24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6705720" y="3124080"/>
              <a:ext cx="2057400" cy="1371600"/>
            </a:xfrm>
            <a:prstGeom prst="ellips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hole Group/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Shared Reading/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Read Aloud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6" name="Oval 7"/>
            <p:cNvSpPr/>
            <p:nvPr/>
          </p:nvSpPr>
          <p:spPr>
            <a:xfrm>
              <a:off x="4343400" y="4724280"/>
              <a:ext cx="2057400" cy="1371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Guided Reading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7" name="Oval 8"/>
            <p:cNvSpPr/>
            <p:nvPr/>
          </p:nvSpPr>
          <p:spPr>
            <a:xfrm>
              <a:off x="914400" y="1981080"/>
              <a:ext cx="2057400" cy="1371600"/>
            </a:xfrm>
            <a:prstGeom prst="ellipse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riter’s Workshop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8" name="Oval 9"/>
            <p:cNvSpPr/>
            <p:nvPr/>
          </p:nvSpPr>
          <p:spPr>
            <a:xfrm>
              <a:off x="533520" y="4267080"/>
              <a:ext cx="2057400" cy="1371600"/>
            </a:xfrm>
            <a:prstGeom prst="ellipse">
              <a:avLst/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Word Study and 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Vocabulary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  <p:sp>
          <p:nvSpPr>
            <p:cNvPr id="119" name="Oval 10"/>
            <p:cNvSpPr/>
            <p:nvPr/>
          </p:nvSpPr>
          <p:spPr>
            <a:xfrm>
              <a:off x="4343400" y="1676520"/>
              <a:ext cx="2057400" cy="137160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Independent 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Palatino Linotype"/>
                </a:rPr>
                <a:t>Reading</a:t>
              </a:r>
              <a:endParaRPr b="0" lang="en-US" sz="1800" spc="-1" strike="noStrike">
                <a:solidFill>
                  <a:srgbClr val="000000"/>
                </a:solidFill>
                <a:latin typeface="Palatino Linotype"/>
              </a:endParaRPr>
            </a:p>
          </p:txBody>
        </p:sp>
      </p:grpSp>
      <p:pic>
        <p:nvPicPr>
          <p:cNvPr id="120" name="Picture 18" descr="girls2"/>
          <p:cNvPicPr/>
          <p:nvPr/>
        </p:nvPicPr>
        <p:blipFill>
          <a:blip r:embed="rId1"/>
          <a:stretch/>
        </p:blipFill>
        <p:spPr>
          <a:xfrm>
            <a:off x="1865160" y="5261040"/>
            <a:ext cx="1749600" cy="13111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9" descr=""/>
          <p:cNvPicPr/>
          <p:nvPr/>
        </p:nvPicPr>
        <p:blipFill>
          <a:blip r:embed="rId2"/>
          <a:stretch/>
        </p:blipFill>
        <p:spPr>
          <a:xfrm>
            <a:off x="6248520" y="4876920"/>
            <a:ext cx="2176200" cy="16398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" descr=""/>
          <p:cNvPicPr/>
          <p:nvPr/>
        </p:nvPicPr>
        <p:blipFill>
          <a:blip r:embed="rId3"/>
          <a:stretch/>
        </p:blipFill>
        <p:spPr>
          <a:xfrm>
            <a:off x="3035160" y="1663560"/>
            <a:ext cx="1659240" cy="125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whew1"/>
          <p:cNvPicPr/>
          <p:nvPr/>
        </p:nvPicPr>
        <p:blipFill>
          <a:blip r:embed="rId1"/>
          <a:stretch/>
        </p:blipFill>
        <p:spPr>
          <a:xfrm>
            <a:off x="5715000" y="3505320"/>
            <a:ext cx="1600200" cy="14446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f497d"/>
                </a:solidFill>
                <a:latin typeface="Palatino Linotype"/>
              </a:rPr>
              <a:t>Year at a Glance</a:t>
            </a: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9144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The Comprehension Toolki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Jan Richardson Strategies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Lucy Calkins Units of Study for Teaching Writing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6" name="Picture 6" descr="Whew_Full"/>
          <p:cNvPicPr/>
          <p:nvPr/>
        </p:nvPicPr>
        <p:blipFill>
          <a:blip r:embed="rId2"/>
          <a:stretch/>
        </p:blipFill>
        <p:spPr>
          <a:xfrm>
            <a:off x="3124080" y="4038480"/>
            <a:ext cx="2590920" cy="23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1f497d"/>
              </a:solidFill>
              <a:latin typeface="Palatino Linotype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29628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0T13:30:52Z</dcterms:created>
  <dc:creator>Harrell, Kelli</dc:creator>
  <dc:description/>
  <dc:language>en-US</dc:language>
  <cp:lastModifiedBy>Harris, Angela</cp:lastModifiedBy>
  <dcterms:modified xsi:type="dcterms:W3CDTF">2012-08-15T17:26:48Z</dcterms:modified>
  <cp:revision>67</cp:revision>
  <dc:subject/>
  <dc:title>RCS ELA Common Core and Essential Standards Training</dc:title>
</cp:coreProperties>
</file>